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4EB-A2CB-484E-AD6A-7FD2B059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7B5-FE9C-48AE-876A-3188716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392-84A5-42C8-9C31-5836C39E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8AF-0A77-4B2E-A7BC-4AA4CB8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2C3-AAE7-4F3A-9952-F9978365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D98-4C9D-4AD4-B86C-B6F09A9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3B6-53F9-4DCF-B7EF-3BA107D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30D-4B4B-4776-AFC2-2EFACEE0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77F-DCDE-4F81-83E3-29559309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494-8F68-4267-9F5B-45CD3CA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CF8-B7DD-4D36-871B-0235F35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63F-804B-4DBF-806A-C06C114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35A1E9-46DF-4783-984E-D49497F85D8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000" y="563400"/>
            <a:ext cx="1010736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3:14:04Z</dcterms:created>
  <dc:creator>jph01</dc:creator>
  <dc:description/>
  <dc:language>en-US</dc:language>
  <cp:lastModifiedBy>jph01</cp:lastModifiedBy>
  <dcterms:modified xsi:type="dcterms:W3CDTF">2014-11-07T13:15:25Z</dcterms:modified>
  <cp:revision>1</cp:revision>
  <dc:subject/>
  <dc:title>Slide 1</dc:title>
</cp:coreProperties>
</file>