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373-BAB8-4795-90E7-5F80B3F5CE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F30-F53F-4E22-A4B9-CBB8FE59A6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120" y="43434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5008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80800"/>
            <a:ext cx="775008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696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8080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6960" y="388080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6240" y="198288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6320" y="198288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8080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6240" y="388080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6320" y="3880800"/>
            <a:ext cx="249516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2880"/>
            <a:ext cx="775008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5008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81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982880"/>
            <a:ext cx="3781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960" y="1982880"/>
            <a:ext cx="3781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8080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81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96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6960" y="388080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6960" y="1982880"/>
            <a:ext cx="3781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80800"/>
            <a:ext cx="775008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880"/>
            <a:ext cx="775008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52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220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199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199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199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93760" y="5734080"/>
            <a:ext cx="8524800" cy="1041120"/>
            <a:chOff x="293760" y="5734080"/>
            <a:chExt cx="8524800" cy="1041120"/>
          </a:xfrm>
        </p:grpSpPr>
        <p:pic>
          <p:nvPicPr>
            <p:cNvPr id="3" name="Picture 5" descr="Bundesadler_OG_briefkopf"/>
            <p:cNvPicPr/>
            <p:nvPr/>
          </p:nvPicPr>
          <p:blipFill>
            <a:blip r:embed="rId2"/>
            <a:stretch/>
          </p:blipFill>
          <p:spPr>
            <a:xfrm>
              <a:off x="293760" y="6286320"/>
              <a:ext cx="29988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Logo2000_c_OG_150"/>
            <p:cNvPicPr/>
            <p:nvPr/>
          </p:nvPicPr>
          <p:blipFill>
            <a:blip r:embed="rId3"/>
            <a:stretch/>
          </p:blipFill>
          <p:spPr>
            <a:xfrm>
              <a:off x="7596360" y="5734080"/>
              <a:ext cx="12222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Line 7"/>
            <p:cNvSpPr/>
            <p:nvPr/>
          </p:nvSpPr>
          <p:spPr>
            <a:xfrm>
              <a:off x="639720" y="6318000"/>
              <a:ext cx="7172280" cy="0"/>
            </a:xfrm>
            <a:prstGeom prst="line">
              <a:avLst/>
            </a:prstGeom>
            <a:ln w="57240">
              <a:solidFill>
                <a:srgbClr val="1e5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8"/>
            <p:cNvSpPr/>
            <p:nvPr/>
          </p:nvSpPr>
          <p:spPr>
            <a:xfrm>
              <a:off x="628920" y="6378480"/>
              <a:ext cx="39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UNDESANSTALT FÜR WASSERBAU     Karlsruhe    Hambur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768840" y="6507000"/>
              <a:ext cx="17280" cy="1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4449600" y="650556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Text Box 11"/>
          <p:cNvSpPr/>
          <p:nvPr/>
        </p:nvSpPr>
        <p:spPr>
          <a:xfrm>
            <a:off x="590040" y="6064200"/>
            <a:ext cx="556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. Schuppener: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sults of EG “Ease of use”  - Meeting of SC7 in Prague  November 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9680" y="5572080"/>
            <a:ext cx="35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nd Schup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993080" cy="22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port of the Session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 Group EG2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Ease of Use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Prag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feld 2"/>
          <p:cNvSpPr/>
          <p:nvPr/>
        </p:nvSpPr>
        <p:spPr>
          <a:xfrm>
            <a:off x="424800" y="969840"/>
            <a:ext cx="83113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Short summary of the Final Report of EG2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EG2 is willing to continue its work until the fir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Project Teams start their wor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3"/>
          <p:cNvSpPr/>
          <p:nvPr/>
        </p:nvSpPr>
        <p:spPr>
          <a:xfrm>
            <a:off x="395280" y="2608200"/>
            <a:ext cx="849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Informative annexes (literatur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Is Guidance Paper L still valid/effectiv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Criteria for what „material“ is useful and acceptable addition to a standard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Should we have calculation models in the core of EC7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When should EC7 refer to national standard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4"/>
          <p:cNvSpPr/>
          <p:nvPr/>
        </p:nvSpPr>
        <p:spPr>
          <a:xfrm>
            <a:off x="971280" y="27612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2d2db9"/>
                </a:solidFill>
                <a:latin typeface="Arial"/>
              </a:rPr>
              <a:t>Topics of the discussion in EG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feld 1"/>
          <p:cNvSpPr/>
          <p:nvPr/>
        </p:nvSpPr>
        <p:spPr>
          <a:xfrm>
            <a:off x="971280" y="276120"/>
            <a:ext cx="71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2d2db9"/>
                </a:solidFill>
                <a:latin typeface="Arial"/>
              </a:rPr>
              <a:t>Topics of the discussion in EG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feld 2"/>
          <p:cNvSpPr/>
          <p:nvPr/>
        </p:nvSpPr>
        <p:spPr>
          <a:xfrm>
            <a:off x="528480" y="1197000"/>
            <a:ext cx="79930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Definition of „derived values of geotechnical parameter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Who determines the derived valu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Who determines the characteristic values of geotechnical parameters – responsibility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Definition of „geotechnical parameter“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ISO 19901-8 on marine soil investigations will soon be published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07:01Z</dcterms:created>
  <dc:creator>BAW</dc:creator>
  <dc:description/>
  <dc:language>en-US</dc:language>
  <cp:lastModifiedBy>Schuppener, Bernd</cp:lastModifiedBy>
  <dcterms:modified xsi:type="dcterms:W3CDTF">2014-11-07T09:25:16Z</dcterms:modified>
  <cp:revision>195</cp:revision>
  <dc:subject/>
  <dc:title>Das Normenhandbuch zu DIN EN 1997-1 und DIN 1054</dc:title>
</cp:coreProperties>
</file>