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C4E9-777D-47E5-ABCC-F1FDF1AD4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1EF0-850B-4972-B28C-2172F463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0C96-DDFA-4CD6-B410-A2376823D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EE91-9C2B-4E4E-9EFA-64A712492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59D5-E5FE-43DA-8FDF-540BBB47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3649-E573-4E8E-BEAF-5FFE56A8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D85D-1602-432E-AD10-6401C4A2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ABE5-3B03-4462-BFF6-877CF531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DE97-5752-41A3-BD20-B4991286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6549-0C7D-4B2C-ACB0-F68F44E0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A377-3BAF-46E9-B3D1-55619E22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FAFE-7E6C-4D4D-B0E7-A10BBBC1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0C8F-3F23-4506-A37C-8919CB3E0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27280" y="260280"/>
            <a:ext cx="3743280" cy="125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42" name=""/>
          <p:cNvGrpSpPr/>
          <p:nvPr/>
        </p:nvGrpSpPr>
        <p:grpSpPr>
          <a:xfrm>
            <a:off x="1763640" y="1847880"/>
            <a:ext cx="5545080" cy="2805120"/>
            <a:chOff x="1763640" y="1847880"/>
            <a:chExt cx="5545080" cy="280512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1763640" y="1847880"/>
              <a:ext cx="5545080" cy="280512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sp>
          <p:nvSpPr>
            <p:cNvPr id="44" name=""/>
            <p:cNvSpPr/>
            <p:nvPr/>
          </p:nvSpPr>
          <p:spPr>
            <a:xfrm>
              <a:off x="4078080" y="1932840"/>
              <a:ext cx="2907000" cy="368280"/>
            </a:xfrm>
            <a:prstGeom prst="rect">
              <a:avLst/>
            </a:prstGeom>
            <a:solidFill>
              <a:srgbClr val="ffff00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1.3 Termes and Defini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370320" y="2108160"/>
              <a:ext cx="57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1960" y="3601800"/>
              <a:ext cx="5373000" cy="391680"/>
            </a:xfrm>
            <a:prstGeom prst="rect">
              <a:avLst/>
            </a:prstGeom>
            <a:solidFill>
              <a:srgbClr val="ffff00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474120" y="5300640"/>
            <a:ext cx="51094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ND IMPROVEMENT DESIGN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10480" y="4869000"/>
            <a:ext cx="132372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29560" y="5805360"/>
            <a:ext cx="13359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R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5724360" y="5084280"/>
            <a:ext cx="863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724360" y="5445000"/>
            <a:ext cx="863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42480" y="3068640"/>
            <a:ext cx="20080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51440" y="5229360"/>
            <a:ext cx="59522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epare the  Final Report by April 9</a:t>
            </a:r>
            <a:r>
              <a:rPr b="0" lang="it-IT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201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29280" y="4149720"/>
            <a:ext cx="76042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epare the  Final Interim Report by January 31</a:t>
            </a:r>
            <a:r>
              <a:rPr b="0" lang="it-IT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201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27560" y="333360"/>
            <a:ext cx="56106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FRUITFUL DISCUSSIONS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79560" y="1128240"/>
            <a:ext cx="347040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G 5 Reinforced S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G 7 Pil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G13 Rock Mecha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4T11:36:18Z</dcterms:created>
  <dc:creator>Croce</dc:creator>
  <dc:description/>
  <dc:language>en-US</dc:language>
  <cp:lastModifiedBy>Croce</cp:lastModifiedBy>
  <dcterms:modified xsi:type="dcterms:W3CDTF">2014-11-07T13:47:33Z</dcterms:modified>
  <cp:revision>80</cp:revision>
  <dc:subject/>
  <dc:title>Diapositiva 1</dc:title>
</cp:coreProperties>
</file>