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8000" y="115920"/>
            <a:ext cx="89280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000" y="1196640"/>
            <a:ext cx="89280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08000" y="3866400"/>
            <a:ext cx="89280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8000" y="115920"/>
            <a:ext cx="89280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8000" y="1196640"/>
            <a:ext cx="435672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2880" y="1196640"/>
            <a:ext cx="435672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8000" y="3866400"/>
            <a:ext cx="435672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2880" y="3866400"/>
            <a:ext cx="435672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8000" y="115920"/>
            <a:ext cx="89280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8000" y="1196640"/>
            <a:ext cx="28746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26600" y="1196640"/>
            <a:ext cx="28746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45560" y="1196640"/>
            <a:ext cx="28746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08000" y="3866400"/>
            <a:ext cx="28746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26600" y="3866400"/>
            <a:ext cx="28746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45560" y="3866400"/>
            <a:ext cx="28746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8000" y="115920"/>
            <a:ext cx="89280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08000" y="1196640"/>
            <a:ext cx="89280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8000" y="115920"/>
            <a:ext cx="89280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08000" y="1196640"/>
            <a:ext cx="89280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8000" y="115920"/>
            <a:ext cx="89280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08000" y="1196640"/>
            <a:ext cx="435672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2880" y="1196640"/>
            <a:ext cx="435672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8000" y="115920"/>
            <a:ext cx="89280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08000" y="115920"/>
            <a:ext cx="892800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8000" y="115920"/>
            <a:ext cx="89280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8000" y="1196640"/>
            <a:ext cx="435672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2880" y="1196640"/>
            <a:ext cx="435672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08000" y="3866400"/>
            <a:ext cx="435672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8000" y="115920"/>
            <a:ext cx="89280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000" y="1196640"/>
            <a:ext cx="435672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2880" y="1196640"/>
            <a:ext cx="435672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2880" y="3866400"/>
            <a:ext cx="435672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8000" y="115920"/>
            <a:ext cx="89280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000" y="1196640"/>
            <a:ext cx="435672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2880" y="1196640"/>
            <a:ext cx="435672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08000" y="3866400"/>
            <a:ext cx="89280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8000" y="115920"/>
            <a:ext cx="89280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8000" y="1196640"/>
            <a:ext cx="89280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300720" y="6453360"/>
            <a:ext cx="273528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08000" y="6513480"/>
            <a:ext cx="591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ff"/>
                </a:solidFill>
                <a:latin typeface="AvantGarde Bk AT"/>
              </a:rPr>
              <a:t>TC250/SC7 Experts meeting, Prague 6. – 7. 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4360" y="177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99"/>
                </a:solidFill>
                <a:latin typeface="Arial"/>
              </a:rPr>
              <a:t>EG 5 – Prague meeting progres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Martin Vaníček, Gerhard  Bräu, Nicolas Freitag, Chris Jenner,</a:t>
            </a:r>
            <a:br>
              <a:rPr sz="3200"/>
            </a:b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Rod Smith, Graham Horgan, Pietro Rimold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G5 contribu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8000" y="115920"/>
            <a:ext cx="89280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Meeting Discussion poi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8000" y="1196640"/>
            <a:ext cx="89280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ith EG14 on possible overla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ith EG4 on difficulties with numerical modelling of soil reinforc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On development of framework docu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Design considerations for reinforced soil structu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Water from rain/snow close to surf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teel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for soil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reinforcement design, durability – who will lead EG5 or SC3? EG5 preferr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efault values for interface soil/reinforc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G5 contribu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08000" y="115920"/>
            <a:ext cx="89280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Meeting Discussion points</a:t>
            </a:r>
            <a:r>
              <a:rPr b="0" lang="cs-CZ" sz="4400" spc="-1" strike="noStrike">
                <a:solidFill>
                  <a:srgbClr val="ffffff"/>
                </a:solidFill>
                <a:latin typeface="Arial"/>
              </a:rPr>
              <a:t> – cont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08000" y="1196640"/>
            <a:ext cx="89280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How to implement reinforcing element into calculation mod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omments from EG13 – partially accepted that we can provide as abo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G5 contribu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Thank you for your atten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ny question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G5 contribu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6T09:25:18Z</dcterms:created>
  <dc:creator>MV</dc:creator>
  <dc:description/>
  <dc:language>en-US</dc:language>
  <cp:lastModifiedBy>vaniceki</cp:lastModifiedBy>
  <dcterms:modified xsi:type="dcterms:W3CDTF">2014-11-07T14:08:05Z</dcterms:modified>
  <cp:revision>7</cp:revision>
  <dc:subject/>
  <dc:title>EG 5 – Brussels meeting progress</dc:title>
</cp:coreProperties>
</file>